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1536-7DA6-416A-9E18-6B8134CA0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97FE-D927-4C1C-94B4-2B77E90F0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C7D7-C900-44F3-BDEA-5D7BBB9FF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EF2F-C9D3-4EB2-8B03-525D2C947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0431-6A1C-4DB8-AC6A-75EA10CC1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E90F-E64B-49BF-BEB4-8EA0494A8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6076-8C9B-4AAD-B486-3BBE76D73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C395-F729-4D45-A428-CA6ABC8FC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3C32-9A18-4850-A45E-4EEB4FA24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EF1A-16B5-4555-BFCE-9E6173830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12C5-92B7-49EE-9F6C-EF99C566B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DD32-2FA4-495B-B082-5757918DA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29BB5-04D0-4193-A88B-1158F1447C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overstockdrugstore.com/product_images/c/381519012693.jpg&amp;imgrefurl=http://www.overstockdrugstore.com/products/Aussie-Dual-Personality-Hi-Hold-%2B-Hi-Shine-Hair-Spray,-Maximum-Hold,-10-oz.html&amp;usg=__KcnufDIAycpqYUS2_jbBdIuXHhw=&amp;h=500&amp;w=500&amp;sz=20&amp;hl=en&amp;start=1&amp;zoom=1&amp;itbs=1&amp;tbnid=ifC-djca-M35UM:&amp;tbnh=130&amp;tbnw=130&amp;prev=/images%3Fq%3Daussie%2Bhairspray%26hl%3Den%26safe%3Dactive%26gbv%3D2%26tbs%3Disch:1&amp;ei=1FBATem7Ls6s8Ab8sI3mAw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google.com/imgres?imgurl=http://ecx.images-amazon.com/images/I/21KPrxHQgwL._SL500_AA300_.jpg&amp;imgrefurl=http://www.amazon.com/White-Rain-Hair-Spray-Firm/dp/B0012E0RRY&amp;usg=__Cr-4uHpknCXfQ_kvIXtOsYYhVdA=&amp;h=300&amp;w=300&amp;sz=9&amp;hl=en&amp;start=8&amp;zoom=1&amp;itbs=1&amp;tbnid=lKJ59dXvN9MOaM:&amp;tbnh=116&amp;tbnw=116&amp;prev=/images%3Fq%3Dwhite%2Brain%2Bhairspray%26hl%3Den%26safe%3Dactive%26gbv%3D2%26tbs%3Disch:1&amp;ei=MFFATajAN4L48AamzrnTAw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hair-spray works the best for curls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Daltyn Flicki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123048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hypothisis was right. Aussie worked much better than White R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sible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y your gong out and want your hair to look nice. Do you want your hair to fall flat? I sure wouldn’t. Using the right hair-spray could determine if you look good or no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sible cause of err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a different curling i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using the same amount of hair-spr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using the same environ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took about an hour and a half each time. Over all I took just about 10 hou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ssie worked much better than the White rain. The White Rain just made the hair clump up. The Aussie just made it hold longer. That is what I expected though. Aussie has a better hold and makes it look better also.My lovely la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ryn Gillesp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tyn Flicki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hypothesis was right, the Aussie worked better. That is what my prediction w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 you so much to my lovely ladies! You were amazing! All 3 of you. I couldn’t have asked for a better group of ladies. Thank you all so much!!! (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roduc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testing if the leading hair-spray brands work better than the off brand. My hypothesis is that the Aussie works be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brand of hair-spray works the be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kinds are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s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te Rain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2362320"/>
            <a:ext cx="1466640" cy="1466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95680" y="3962520"/>
            <a:ext cx="12956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ryn &amp; Brity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ling i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ssie hair-spr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te rain hair-spr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s. Riffels 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105520" y="1066680"/>
            <a:ext cx="3276360" cy="2457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029200" y="411480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i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hypothisis is that the Aussie will work much better than the White Rain. White Rain isn’t a very good brand of hair-spr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I sprayed all the 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I curled it and sprayed it while I was curling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when I was done I sprayed it all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267080" y="3886200"/>
            <a:ext cx="327672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knew that the Aussie would most likely hold better than the White Rain. I have used Aussie before and I knew it is very good brand of hair-spr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ant: I used the same iron, the same amount of hair spray, and also the same environmo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endent: I used a different brand of hair-spr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 you Brityn and Taryn for letting me use you in my project. It meant a lot to me. Also thank you Mrs. Riffel for all of the elp and for letting me use your room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16:50:47Z</dcterms:created>
  <dc:creator>USD376</dc:creator>
  <dc:description/>
  <dc:language>en-US</dc:language>
  <cp:lastModifiedBy>STERLING  USD376</cp:lastModifiedBy>
  <dcterms:modified xsi:type="dcterms:W3CDTF">2011-02-23T17:20:22Z</dcterms:modified>
  <cp:revision>5</cp:revision>
  <dc:subject/>
  <dc:title>What hair-spray works the best? </dc:title>
</cp:coreProperties>
</file>